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8a8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78a8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8FA7-8DA5-4295-8402-9B6324E692A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4163-0474-49D4-BAFE-D00A1A702B4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48A2-472B-4D2E-B88D-26C751BFCE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Need to understand NERAs role vs immigration role of Gar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922F-26BD-4E00-A929-1BDE46D06C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B731-271C-4FD6-A01E-410485A774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Can see nationality, immigration/EP status, work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NERA hasn’t power or training to decide if case is THB or not and therefore Garda referral – careful about terminology – NGO and State use term differently and need better agreement about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46ED-37A3-42BB-A77F-186C854C5C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language inspectors have assisted revenue and social welfare – untapped re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320E-70FD-4CC8-A7DA-AC164874E7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Make it hard for traffickers to ope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100 domestic inspections, €4400 wage arrears in 5 cases, records predominate, no prosecutions, no EP or traffic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Trafficking as initial defence then run – NERA refer all cases without jud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C88A-36FA-43EB-8D62-FDD698E87A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AEF7-2AC3-409E-94D8-8FF2173F0E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Scoping: MRCI 180 cases in 6 years, 2010 National 78 – 20% lab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dentification – more training, more referrals, special inspector team???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1 year statute limitations employment law/2 years in 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Maybe NERA can be more active in pursuing cases where trafficking cant be pro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2431-B8D2-4F38-91D0-EBC684A06E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06E6-1EFE-445B-8ACF-2F93697E66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Irish employment law covers all employees with contract of employ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Grey areas: interns, au pairs, volunteers – test: mutuality of obligation, consideration, capa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5418-6E7B-47B6-AE0C-5856148CFA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Employees arent cautio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Unannounced visits, mostly at night, if no problem – no insp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7C74-7146-4EE2-B1D8-3A2CBF568F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B7A2-1195-43E2-ACF0-7DD30BB9EF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CCF5-815F-4949-AFAE-56C3D51628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ECF3-760A-47E7-BA5E-64E107B962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C01B-6D02-4C4A-89E1-E6F5D1DC59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Calibri"/>
              </a:rPr>
              <a:t>NERA does not prosecute employees – simply inform employer to stand down employee till employment situation resolved but does share information with Gar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5FE2-EE26-4E98-A460-D05B04BD47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ECC2-D3B7-468D-8B97-64240B190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8a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571760"/>
            <a:ext cx="79722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85520" y="3935880"/>
            <a:ext cx="79722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AC69-3C7D-4A35-9C89-0521F506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8a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5520" y="1571760"/>
            <a:ext cx="389016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70440" y="1571760"/>
            <a:ext cx="389016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5520" y="3935880"/>
            <a:ext cx="389016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70440" y="3935880"/>
            <a:ext cx="389016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BE9-6461-4755-A4EA-3E575B70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8a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5520" y="1571760"/>
            <a:ext cx="2566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1200" y="1571760"/>
            <a:ext cx="2566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6520" y="1571760"/>
            <a:ext cx="2566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85520" y="3935880"/>
            <a:ext cx="2566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1200" y="3935880"/>
            <a:ext cx="2566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6520" y="3935880"/>
            <a:ext cx="2566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DDC-114A-405C-B097-3CD2C77E6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8a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85520" y="1571760"/>
            <a:ext cx="79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2457-6FE6-4E75-8BE4-60C321A0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8a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5520" y="1571760"/>
            <a:ext cx="79722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9ABD-2FA5-465B-B4E9-07B31BAA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8a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85520" y="1571760"/>
            <a:ext cx="389016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70440" y="1571760"/>
            <a:ext cx="389016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E6C-CDC6-4ED3-8403-FEA6F4F7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8a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326F-B282-4EAB-8229-C25D434B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74320"/>
            <a:ext cx="797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2453-5C22-472F-ACAC-F18F7D72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8a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5520" y="1571760"/>
            <a:ext cx="389016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0440" y="1571760"/>
            <a:ext cx="389016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85520" y="3935880"/>
            <a:ext cx="389016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6854-9973-4563-B96E-40E7F9F3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8a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571760"/>
            <a:ext cx="389016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0440" y="1571760"/>
            <a:ext cx="389016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70440" y="3935880"/>
            <a:ext cx="389016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A663-9A86-485B-82AC-13C652BE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8a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571760"/>
            <a:ext cx="389016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0440" y="1571760"/>
            <a:ext cx="389016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85520" y="3935880"/>
            <a:ext cx="79722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7DE2-44DA-4691-B21A-80C00A12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85520" y="1571760"/>
            <a:ext cx="79722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59595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59595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8a8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78a8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325B-8659-4F24-B747-1055E6A2F7B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johnmkelly@employmentrights.ie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8a8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78a8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pic>
        <p:nvPicPr>
          <p:cNvPr id="50" name="Picture 3" descr="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text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Content Placeholder 2"/>
          <p:cNvSpPr/>
          <p:nvPr/>
        </p:nvSpPr>
        <p:spPr>
          <a:xfrm>
            <a:off x="231840" y="1496880"/>
            <a:ext cx="88390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06800" indent="-4068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Labour exploitation includes: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1068120" indent="-4068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forced labour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1068120" indent="-4068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forcing the person to render services to another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406800" indent="-4068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Forced labour: </a:t>
            </a:r>
            <a:r>
              <a:rPr b="0" i="1" lang="en-IE" sz="2800" spc="-1" strike="noStrike">
                <a:solidFill>
                  <a:srgbClr val="595959"/>
                </a:solidFill>
                <a:latin typeface="Calibri"/>
              </a:rPr>
              <a:t>‘</a:t>
            </a: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a work or service which is exacted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1068120" indent="-406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from a person under the menace of any penalty and for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1068120" indent="-406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95959"/>
                </a:solidFill>
                <a:latin typeface="Calibri"/>
              </a:rPr>
              <a:t>which the person has not offered himself or herself voluntarily’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406800" indent="-4068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406800" indent="-4068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406800" indent="-4068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7" name="Title 1"/>
          <p:cNvSpPr/>
          <p:nvPr/>
        </p:nvSpPr>
        <p:spPr>
          <a:xfrm>
            <a:off x="684360" y="357120"/>
            <a:ext cx="804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Forced Labour - </a:t>
            </a:r>
            <a:r>
              <a:rPr b="0" lang="en-IE" sz="3200" spc="-1" strike="noStrike">
                <a:solidFill>
                  <a:srgbClr val="595959"/>
                </a:solidFill>
                <a:latin typeface="Calibri"/>
              </a:rPr>
              <a:t>Criminal Law (Human Trafficking) Acts 2008 &amp; 2013 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text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Content Placeholder 2"/>
          <p:cNvSpPr/>
          <p:nvPr/>
        </p:nvSpPr>
        <p:spPr>
          <a:xfrm>
            <a:off x="264960" y="1257480"/>
            <a:ext cx="8839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No statutory role for NERA under Criminal Law (Human Trafficking) 2008 &amp; 2013 Acts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Inclusion of labour exploitation clearly allows NERA to contribute to prevention forced labour through enforcement of labour law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0" name="Title 1"/>
          <p:cNvSpPr/>
          <p:nvPr/>
        </p:nvSpPr>
        <p:spPr>
          <a:xfrm>
            <a:off x="684360" y="357120"/>
            <a:ext cx="804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Statutory role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text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Content Placeholder 2"/>
          <p:cNvSpPr/>
          <p:nvPr/>
        </p:nvSpPr>
        <p:spPr>
          <a:xfrm>
            <a:off x="264960" y="1257480"/>
            <a:ext cx="8839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Information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Identification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Disruption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3" name="Title 1"/>
          <p:cNvSpPr/>
          <p:nvPr/>
        </p:nvSpPr>
        <p:spPr>
          <a:xfrm>
            <a:off x="684360" y="357120"/>
            <a:ext cx="804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What can NERA do to prevent THB?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text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Content Placeholder 2"/>
          <p:cNvSpPr/>
          <p:nvPr/>
        </p:nvSpPr>
        <p:spPr>
          <a:xfrm>
            <a:off x="264960" y="949320"/>
            <a:ext cx="8839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Inspectors trained in identifying indicators of THB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Obligation on employers and employees to provide information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Power to enter any workplace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Access to official records &amp; information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6" name="Title 1"/>
          <p:cNvSpPr/>
          <p:nvPr/>
        </p:nvSpPr>
        <p:spPr>
          <a:xfrm>
            <a:off x="684360" y="357120"/>
            <a:ext cx="804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Identificatio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text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Content Placeholder 2"/>
          <p:cNvSpPr/>
          <p:nvPr/>
        </p:nvSpPr>
        <p:spPr>
          <a:xfrm>
            <a:off x="264960" y="949320"/>
            <a:ext cx="8839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Call centre, publications, website, training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Working with other organisations (NGO &amp; State)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Information available in 13 languages/8 language inspector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Multi lingual inspection card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684360" y="357120"/>
            <a:ext cx="804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Informatio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text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Content Placeholder 2"/>
          <p:cNvSpPr/>
          <p:nvPr/>
        </p:nvSpPr>
        <p:spPr>
          <a:xfrm>
            <a:off x="264960" y="949320"/>
            <a:ext cx="8839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370080" indent="-37008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70080" indent="-37008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Inspections help create an environment where it is difficult for traffickers to operate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Inspections of vulnerable work sectors </a:t>
            </a: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(Domestic, Catering, Hotels, Contract Cleaning, Agriculture, Car Washes….)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70080" indent="-37008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Enforcement of Employment Permit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70080" indent="-37008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Joint inspections with Revenue &amp; Social Protection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70080" indent="-37008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10 suspicious cases to Garda in 2014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2" name="Title 1"/>
          <p:cNvSpPr/>
          <p:nvPr/>
        </p:nvSpPr>
        <p:spPr>
          <a:xfrm>
            <a:off x="684360" y="357120"/>
            <a:ext cx="804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Disruption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text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Content Placeholder 2"/>
          <p:cNvSpPr/>
          <p:nvPr/>
        </p:nvSpPr>
        <p:spPr>
          <a:xfrm>
            <a:off x="264960" y="1257480"/>
            <a:ext cx="8839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Member of Labour Exploitation Working Group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93120" indent="-39312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Close working relationship with MRCI and other NGO’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93120" indent="-39312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Information sharing and joint inspections with Garda, Revenue &amp; Department of Social Protection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93120" indent="-39312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Training of Garda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93120" indent="-39312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Inspectors trained by Garda in indicators of THB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93120" indent="-39312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Inspections of sectors where THB may be encountered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93120" indent="-393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93120" indent="-39312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393120" indent="-3931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5" name="Title 1"/>
          <p:cNvSpPr/>
          <p:nvPr/>
        </p:nvSpPr>
        <p:spPr>
          <a:xfrm>
            <a:off x="684360" y="357120"/>
            <a:ext cx="804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NERA &amp; THB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text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Content Placeholder 2"/>
          <p:cNvSpPr/>
          <p:nvPr/>
        </p:nvSpPr>
        <p:spPr>
          <a:xfrm>
            <a:off x="264960" y="949320"/>
            <a:ext cx="88394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15800" indent="-41580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415800" indent="-4158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Forced labour v labour exploitation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415800" indent="-4158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Victim identification &amp; co-operation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415800" indent="-4158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Ability to impose financial &amp; legal consequences for offender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415800" indent="-4158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Early referral/information exchange between all bodies 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marL="415800" indent="-415800">
              <a:lnSpc>
                <a:spcPct val="150000"/>
              </a:lnSpc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Greater co-operation and coherence between State &amp; Civil society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684360" y="357120"/>
            <a:ext cx="804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Issue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text.jpg"/>
          <p:cNvPicPr/>
          <p:nvPr/>
        </p:nvPicPr>
        <p:blipFill>
          <a:blip r:embed="rId1"/>
          <a:stretch/>
        </p:blipFill>
        <p:spPr>
          <a:xfrm>
            <a:off x="-6660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26"/>
          <p:cNvSpPr/>
          <p:nvPr/>
        </p:nvSpPr>
        <p:spPr>
          <a:xfrm>
            <a:off x="581040" y="1143000"/>
            <a:ext cx="7848720" cy="14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1" name="Title 1"/>
          <p:cNvSpPr/>
          <p:nvPr/>
        </p:nvSpPr>
        <p:spPr>
          <a:xfrm>
            <a:off x="3809880" y="1219320"/>
            <a:ext cx="84171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81040" y="3571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755640" y="1413000"/>
            <a:ext cx="73454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John Kelly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Regional Manager 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National Employment Rights Authority (NERA)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johnmkelly@employmentrights.ie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+353 5991 78942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07360" cy="7024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611280" y="2308320"/>
            <a:ext cx="7553160" cy="1936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684360" y="4703760"/>
            <a:ext cx="813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78a8"/>
                </a:solidFill>
                <a:latin typeface="Arial"/>
              </a:rPr>
              <a:t>Achieving a national culture of </a:t>
            </a: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78a8"/>
                </a:solidFill>
                <a:latin typeface="Arial"/>
              </a:rPr>
              <a:t>employment rights compliance</a:t>
            </a: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text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Content Placeholder 2"/>
          <p:cNvSpPr/>
          <p:nvPr/>
        </p:nvSpPr>
        <p:spPr>
          <a:xfrm>
            <a:off x="287280" y="1503360"/>
            <a:ext cx="883908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Irish labour inspectorate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57 inspector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5 regional offices </a:t>
            </a: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(Carlow, Dublin, Shannon, Cork, &amp; Sligo)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Achieve compliance through information, inspection &amp; enforcement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2014: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1140120" indent="-43416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Provided information directly 50,000+ people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1140120" indent="-43416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Completed over 5,500 inspection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1140120" indent="-434160"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149 prosecutions initiated in 2014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3" name="Title 1"/>
          <p:cNvSpPr/>
          <p:nvPr/>
        </p:nvSpPr>
        <p:spPr>
          <a:xfrm>
            <a:off x="684360" y="357120"/>
            <a:ext cx="804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NERA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text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Content Placeholder 2"/>
          <p:cNvSpPr/>
          <p:nvPr/>
        </p:nvSpPr>
        <p:spPr>
          <a:xfrm>
            <a:off x="264960" y="1257480"/>
            <a:ext cx="8839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Enforcing </a:t>
            </a:r>
            <a:r>
              <a:rPr b="0" lang="en-US" sz="2800" spc="-1" strike="noStrike" u="sng">
                <a:solidFill>
                  <a:srgbClr val="595959"/>
                </a:solidFill>
                <a:uFillTx/>
                <a:latin typeface="Calibri"/>
              </a:rPr>
              <a:t>statutory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 legal rights &amp; obligations: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936000" indent="-35640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National Minimum Wage Act 2000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936000" indent="-35640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Payment of Wages Act 1991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936000" indent="-35640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Organisation of Working Time Act 1997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936000" indent="-35640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Protection of Young Persons (Employment) Act 1996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936000" indent="-35640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Employment Permits Act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595959"/>
                </a:solidFill>
                <a:latin typeface="Calibri"/>
              </a:rPr>
              <a:t>Powers: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 lvl="1" marL="936000" indent="-35640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Entry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936000" indent="-35640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View, take/copy record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936000" indent="-35640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interview person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936000" indent="-35640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Exchange information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lvl="1" marL="936000" indent="-356400">
              <a:spcBef>
                <a:spcPts val="601"/>
              </a:spcBef>
              <a:buClr>
                <a:srgbClr val="59595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Offence to obstruct/mislead Inspector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684360" y="357120"/>
            <a:ext cx="804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Inspection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text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Content Placeholder 2"/>
          <p:cNvSpPr/>
          <p:nvPr/>
        </p:nvSpPr>
        <p:spPr>
          <a:xfrm>
            <a:off x="264960" y="1257480"/>
            <a:ext cx="8839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Produce warrant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Interview under caution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Question employer, employees &amp; inspect record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Refer any issues to relevant authoritie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Most visits by appointment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Unannounced day &amp; night visits</a:t>
            </a:r>
            <a:endParaRPr b="0" lang="en-US" sz="28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9" name="Title 1"/>
          <p:cNvSpPr/>
          <p:nvPr/>
        </p:nvSpPr>
        <p:spPr>
          <a:xfrm>
            <a:off x="684360" y="357120"/>
            <a:ext cx="804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95959"/>
                </a:solidFill>
                <a:latin typeface="Calibri"/>
              </a:rPr>
              <a:t>Carrying out Inspection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text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Content Placeholder 2"/>
          <p:cNvSpPr/>
          <p:nvPr/>
        </p:nvSpPr>
        <p:spPr>
          <a:xfrm>
            <a:off x="264960" y="1413000"/>
            <a:ext cx="8839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Written Statement of Terms and Condition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Written statement of Pay (Payslip)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Minimum Wage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Annual Leave/Holiday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Average 48 hr working week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Sunday Premium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Breaks/Rest period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Minimum Notice before dismissal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684360" y="357120"/>
            <a:ext cx="804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95959"/>
                </a:solidFill>
                <a:latin typeface="Calibri"/>
              </a:rPr>
              <a:t>Employees Basic Right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text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Content Placeholder 2"/>
          <p:cNvSpPr/>
          <p:nvPr/>
        </p:nvSpPr>
        <p:spPr>
          <a:xfrm>
            <a:off x="264960" y="1413000"/>
            <a:ext cx="8839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Ask employer to rectify any breache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Provide reasonable time-frame to become compliant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Close file if compliance achieved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95959"/>
                </a:solidFill>
                <a:latin typeface="Calibri"/>
              </a:rPr>
              <a:t>Carry out follow-up inspection (6-12 months) to ensure compliance is maintained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Prosecute if employer does not rectify breaches or if employer is consistent offender (records, employment permits)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5" name="Title 1"/>
          <p:cNvSpPr/>
          <p:nvPr/>
        </p:nvSpPr>
        <p:spPr>
          <a:xfrm>
            <a:off x="684360" y="357120"/>
            <a:ext cx="804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95959"/>
                </a:solidFill>
                <a:latin typeface="Calibri"/>
              </a:rPr>
              <a:t>Dealing with Non-Compliance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text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Content Placeholder 2"/>
          <p:cNvSpPr/>
          <p:nvPr/>
        </p:nvSpPr>
        <p:spPr>
          <a:xfrm>
            <a:off x="264960" y="1413000"/>
            <a:ext cx="8839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Badly kept or no record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No terms &amp; condition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Failure to pay Statutory Minimum Rate of pay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Benefit for Public Holiday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Employment Permit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8" name="Title 1"/>
          <p:cNvSpPr/>
          <p:nvPr/>
        </p:nvSpPr>
        <p:spPr>
          <a:xfrm>
            <a:off x="684360" y="357120"/>
            <a:ext cx="804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595959"/>
                </a:solidFill>
                <a:latin typeface="Calibri"/>
              </a:rPr>
              <a:t>Main breaches of employment law found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text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Content Placeholder 2"/>
          <p:cNvSpPr/>
          <p:nvPr/>
        </p:nvSpPr>
        <p:spPr>
          <a:xfrm>
            <a:off x="264960" y="1413000"/>
            <a:ext cx="8839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Employment Permits Act 2006 – Authorised Officer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Employment  Permit compliance checked as part of NERA Inspection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Employment rights of individuals are not enforceable if the employment contract is invalid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Part 2 of Employment Permits (Amendment) Act  2014 provides remedy for cases similar to Hussein v The Labour Court &amp; Anor [2012]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684360" y="357120"/>
            <a:ext cx="804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595959"/>
                </a:solidFill>
                <a:latin typeface="Calibri"/>
              </a:rPr>
              <a:t>Employment Permit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text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Content Placeholder 2"/>
          <p:cNvSpPr/>
          <p:nvPr/>
        </p:nvSpPr>
        <p:spPr>
          <a:xfrm>
            <a:off x="264960" y="1413000"/>
            <a:ext cx="88394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Over 3 years of inspection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25800" indent="-32580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Cases primarily sourced through official record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25800" indent="-32580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140 inspections since 2011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25800" indent="-32580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Mostly record/terms &amp; conditions breache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25800" indent="-32580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Approx. €6,000 wage arrear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25800" indent="-32580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595959"/>
                </a:solidFill>
                <a:latin typeface="Calibri"/>
              </a:rPr>
              <a:t>Au Pairs &amp; Domestic Work, employment/self employment, overnight hours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25800" indent="-32580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Carers Association/SIPTU/MRCI project  ‘Developing employment standards for homecare workers’</a:t>
            </a: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25800" indent="-325800">
              <a:spcBef>
                <a:spcPts val="150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alibri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  <a:p>
            <a:pPr marL="325800" indent="-32580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4" name="Title 1"/>
          <p:cNvSpPr/>
          <p:nvPr/>
        </p:nvSpPr>
        <p:spPr>
          <a:xfrm>
            <a:off x="684360" y="357120"/>
            <a:ext cx="804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595959"/>
                </a:solidFill>
                <a:latin typeface="Calibri"/>
              </a:rPr>
              <a:t>Domestic workers</a:t>
            </a:r>
            <a:endParaRPr b="0" lang="en-US" sz="32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8T10:49:11Z</dcterms:created>
  <dc:creator>mhyde</dc:creator>
  <dc:description/>
  <dc:language>en-US</dc:language>
  <cp:lastModifiedBy>John M Kelly</cp:lastModifiedBy>
  <cp:lastPrinted>2011-10-26T15:48:37Z</cp:lastPrinted>
  <dcterms:modified xsi:type="dcterms:W3CDTF">2015-01-20T08:34:40Z</dcterms:modified>
  <cp:revision>468</cp:revision>
  <dc:subject/>
  <dc:title>Slide 1</dc:title>
</cp:coreProperties>
</file>