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1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675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675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259920"/>
            <a:ext cx="867564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f23b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f2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080" indent="-19368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f2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f2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8f2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S:\04 Policy and Communications\02 Communications\19 Government identity system\Home Office\Logos\Digital\Gangmasters LA_DIGI.png"/>
          <p:cNvPicPr/>
          <p:nvPr/>
        </p:nvPicPr>
        <p:blipFill>
          <a:blip r:embed="rId2"/>
          <a:stretch/>
        </p:blipFill>
        <p:spPr>
          <a:xfrm>
            <a:off x="374760" y="6367320"/>
            <a:ext cx="3325680" cy="335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-19080" y="1558800"/>
            <a:ext cx="9144000" cy="5300640"/>
          </a:xfrm>
          <a:prstGeom prst="rect">
            <a:avLst/>
          </a:prstGeom>
          <a:solidFill>
            <a:srgbClr val="8f2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2" descr="S:\04 Policy and Communications\02 Communications\19 Government identity system\Home Office\Logos\Gangmasters LA_582_AW.png"/>
          <p:cNvPicPr/>
          <p:nvPr/>
        </p:nvPicPr>
        <p:blipFill>
          <a:blip r:embed="rId2"/>
          <a:stretch/>
        </p:blipFill>
        <p:spPr>
          <a:xfrm>
            <a:off x="755640" y="299880"/>
            <a:ext cx="2030400" cy="887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f23b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f2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080" indent="-19368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f2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f2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8f23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S:\04 Policy and Communications\02 Communications\19 Government identity system\Home Office\Logos\Digital\Gangmasters LA_DIGI.png"/>
          <p:cNvPicPr/>
          <p:nvPr/>
        </p:nvPicPr>
        <p:blipFill>
          <a:blip r:embed="rId2"/>
          <a:stretch/>
        </p:blipFill>
        <p:spPr>
          <a:xfrm>
            <a:off x="374760" y="6367320"/>
            <a:ext cx="3325680" cy="335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S:\04 Policy and Communications\02 Communications\19 Government identity system\Home Office\Logos\Digital\Gangmasters LA_DIGI.png"/>
          <p:cNvPicPr/>
          <p:nvPr/>
        </p:nvPicPr>
        <p:blipFill>
          <a:blip r:embed="rId3"/>
          <a:stretch/>
        </p:blipFill>
        <p:spPr>
          <a:xfrm>
            <a:off x="374760" y="6367320"/>
            <a:ext cx="3325680" cy="335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675640" cy="86508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f23b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f2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080" indent="-19368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f23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f23b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mailto:Paul.broadbent@gla.gsi.gov.uk" TargetMode="External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7691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peration Alto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aul Broadbent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EO</a:t>
            </a: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22" name="Title 1"/>
          <p:cNvSpPr/>
          <p:nvPr/>
        </p:nvSpPr>
        <p:spPr>
          <a:xfrm>
            <a:off x="896760" y="5805360"/>
            <a:ext cx="769176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ubtitle 2"/>
          <p:cNvSpPr/>
          <p:nvPr/>
        </p:nvSpPr>
        <p:spPr>
          <a:xfrm>
            <a:off x="604800" y="6081840"/>
            <a:ext cx="8263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50920" indent="-250920"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ing in partnership to protect vulnerable and exploited wor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pic>
        <p:nvPicPr>
          <p:cNvPr id="145" name="Content Placeholder 3" descr=""/>
          <p:cNvPicPr/>
          <p:nvPr/>
        </p:nvPicPr>
        <p:blipFill>
          <a:blip r:embed="rId1"/>
          <a:srcRect l="20154" t="8485" r="19545" b="33732"/>
          <a:stretch/>
        </p:blipFill>
        <p:spPr>
          <a:xfrm>
            <a:off x="755640" y="692280"/>
            <a:ext cx="7561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pic>
        <p:nvPicPr>
          <p:cNvPr id="147" name="Content Placeholder 3" descr=""/>
          <p:cNvPicPr/>
          <p:nvPr/>
        </p:nvPicPr>
        <p:blipFill>
          <a:blip r:embed="rId1"/>
          <a:stretch/>
        </p:blipFill>
        <p:spPr>
          <a:xfrm>
            <a:off x="179280" y="44280"/>
            <a:ext cx="8964720" cy="6126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2"/>
          <a:stretch/>
        </p:blipFill>
        <p:spPr>
          <a:xfrm>
            <a:off x="3882960" y="626760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4500720" y="62658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"/>
          <p:cNvSpPr/>
          <p:nvPr/>
        </p:nvSpPr>
        <p:spPr>
          <a:xfrm>
            <a:off x="5376240" y="6267600"/>
            <a:ext cx="33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aul.broadbent@gla.gsi.gov.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pic>
        <p:nvPicPr>
          <p:cNvPr id="125" name="Content Placeholder 3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65196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pic>
        <p:nvPicPr>
          <p:cNvPr id="127" name="Content Placeholder 3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5905440"/>
          </a:xfrm>
          <a:prstGeom prst="rect">
            <a:avLst/>
          </a:prstGeom>
          <a:ln w="0">
            <a:noFill/>
          </a:ln>
        </p:spPr>
      </p:pic>
      <p:sp>
        <p:nvSpPr>
          <p:cNvPr id="128" name="5-Point Star 2"/>
          <p:cNvSpPr/>
          <p:nvPr/>
        </p:nvSpPr>
        <p:spPr>
          <a:xfrm>
            <a:off x="3757680" y="2955960"/>
            <a:ext cx="216000" cy="287280"/>
          </a:xfrm>
          <a:custGeom>
            <a:avLst/>
            <a:gdLst/>
            <a:ahLst/>
            <a:rect l="l" t="t" r="r" b="b"/>
            <a:pathLst>
              <a:path w="215900" h="287338">
                <a:moveTo>
                  <a:pt x="0" y="109753"/>
                </a:moveTo>
                <a:lnTo>
                  <a:pt x="82467" y="109754"/>
                </a:lnTo>
                <a:lnTo>
                  <a:pt x="107950" y="0"/>
                </a:lnTo>
                <a:lnTo>
                  <a:pt x="133433" y="109754"/>
                </a:lnTo>
                <a:lnTo>
                  <a:pt x="215900" y="109753"/>
                </a:lnTo>
                <a:lnTo>
                  <a:pt x="149182" y="177584"/>
                </a:lnTo>
                <a:lnTo>
                  <a:pt x="174667" y="287337"/>
                </a:lnTo>
                <a:lnTo>
                  <a:pt x="107950" y="219505"/>
                </a:lnTo>
                <a:lnTo>
                  <a:pt x="41233" y="287337"/>
                </a:lnTo>
                <a:lnTo>
                  <a:pt x="66718" y="177584"/>
                </a:lnTo>
                <a:lnTo>
                  <a:pt x="0" y="10975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8f23b3"/>
                </a:solidFill>
                <a:latin typeface="Arial"/>
              </a:rPr>
              <a:t>Operation Alto – Police Scotland</a:t>
            </a:r>
            <a:endParaRPr b="1" lang="en-US" sz="43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bour Exploitation &amp;Human Traffi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uth West Scotland - 7 Traw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Turnover - £3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victim Plymouth Apostle of the S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 Filipino victims Northern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 Filipino victims Scottish air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f23b3"/>
                </a:solidFill>
                <a:latin typeface="Arial"/>
              </a:rPr>
              <a:t>Executive Action</a:t>
            </a: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ember 2012 – International Multi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 Vessels searched an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3 potential victims of trafficking, slavery, debt bondage, ass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hilippine, Sri Lankan, Ghana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RM – Migrant Help – Fishermen's 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triation or  safe, secure UK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investigation - officers in Manila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th Atlantic Maritime Project - Gar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f23b3"/>
                </a:solidFill>
                <a:latin typeface="Arial"/>
              </a:rPr>
              <a:t>Power &amp; Profit – Fear &amp; Hope</a:t>
            </a: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,000 to 13,000 victims in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w paid - low skilled - high demand – tempo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00,000 in GLA sector – £100bn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6 million total temporary workers in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8 million on minimum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sks - Agriculture, food packing &amp; processing, cleaning, catering, construction, car wash, care homes, charity bags, leaflet dr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al explo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pic>
        <p:nvPicPr>
          <p:cNvPr id="136" name="Content Placeholder 3" descr=""/>
          <p:cNvPicPr/>
          <p:nvPr/>
        </p:nvPicPr>
        <p:blipFill>
          <a:blip r:embed="rId1"/>
          <a:stretch/>
        </p:blipFill>
        <p:spPr>
          <a:xfrm>
            <a:off x="1763640" y="0"/>
            <a:ext cx="57610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pic>
        <p:nvPicPr>
          <p:cNvPr id="138" name="Content Placeholder 6" descr=""/>
          <p:cNvPicPr/>
          <p:nvPr/>
        </p:nvPicPr>
        <p:blipFill>
          <a:blip r:embed="rId1"/>
          <a:stretch/>
        </p:blipFill>
        <p:spPr>
          <a:xfrm>
            <a:off x="249120" y="115920"/>
            <a:ext cx="4292640" cy="4121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4552920" y="2997360"/>
            <a:ext cx="4581720" cy="401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3"/>
          <a:stretch/>
        </p:blipFill>
        <p:spPr>
          <a:xfrm>
            <a:off x="5724360" y="476280"/>
            <a:ext cx="2454480" cy="223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4"/>
          <a:stretch/>
        </p:blipFill>
        <p:spPr>
          <a:xfrm>
            <a:off x="1187280" y="4508640"/>
            <a:ext cx="2476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lIns="180000" rIns="180000" tIns="108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f23b3"/>
                </a:solidFill>
                <a:latin typeface="Arial"/>
              </a:rPr>
              <a:t>Looking forward</a:t>
            </a:r>
            <a:endParaRPr b="1" lang="en-US" sz="3600" spc="-1" strike="noStrike">
              <a:solidFill>
                <a:srgbClr val="8f23b3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Enforcement Agency and Labour Inspectorat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d assessment of other high risk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ded GLA staff in product originat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avery prevention at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protection for victi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entless pursuit of offe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paredness for all types of slav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A = Anti Slavery Ag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700"/>
              </a:spcBef>
              <a:buClr>
                <a:srgbClr val="8f23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15:31:54Z</dcterms:created>
  <dc:creator>Riley, Jane (GLA)</dc:creator>
  <dc:description/>
  <dc:language>en-US</dc:language>
  <cp:lastModifiedBy>Broadbent, Paul (GLA)</cp:lastModifiedBy>
  <dcterms:modified xsi:type="dcterms:W3CDTF">2014-12-05T23:17:41Z</dcterms:modified>
  <cp:revision>89</cp:revision>
  <dc:subject/>
  <dc:title>Title Sub title</dc:title>
</cp:coreProperties>
</file>